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AF39-DE6E-4358-B098-5D42F9E4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9739-8519-4485-8940-C017157E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45CF-4FCC-4C67-B9B4-1FFF81A83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AB45-E43D-448D-A528-8A5B131F9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CF04-2989-46E9-97F1-AE8F6A22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CF25-F5B8-4A4D-BBE1-5CE62543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17DB-00E6-465E-B0D6-59AB2B66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6DBB-BD34-4062-80D5-473AE30C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877A-5552-4167-A6A5-28A1BBEB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0DCC-0912-43C5-92FE-97C920BB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CBAF-86B6-47E6-A699-33E09ED4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6543-640F-4611-927D-EBFFC70F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8458-8D93-44DF-BD32-F12A278CB0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-303120" y="1557360"/>
            <a:ext cx="9905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IRLING  EX  PRESIDENTS                        EX  PRESIDENTS                           EX  PRESIDENTS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33"/>
          <p:cNvSpPr/>
          <p:nvPr/>
        </p:nvSpPr>
        <p:spPr>
          <a:xfrm>
            <a:off x="3728880" y="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9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5" descr="Stirling Ex Presidents 2.jpg"/>
          <p:cNvPicPr/>
          <p:nvPr/>
        </p:nvPicPr>
        <p:blipFill>
          <a:blip r:embed="rId1"/>
          <a:stretch/>
        </p:blipFill>
        <p:spPr>
          <a:xfrm>
            <a:off x="272880" y="333360"/>
            <a:ext cx="1157400" cy="1266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6" descr="Stirling Ex Presidents 3.JPG"/>
          <p:cNvPicPr/>
          <p:nvPr/>
        </p:nvPicPr>
        <p:blipFill>
          <a:blip r:embed="rId2"/>
          <a:stretch/>
        </p:blipFill>
        <p:spPr>
          <a:xfrm>
            <a:off x="2000160" y="549360"/>
            <a:ext cx="1041480" cy="1046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7" descr="Stirling Ex Pressidents 50th.JPG"/>
          <p:cNvPicPr/>
          <p:nvPr/>
        </p:nvPicPr>
        <p:blipFill>
          <a:blip r:embed="rId3"/>
          <a:stretch/>
        </p:blipFill>
        <p:spPr>
          <a:xfrm>
            <a:off x="3513240" y="333360"/>
            <a:ext cx="122544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8:29:43Z</dcterms:created>
  <dc:creator>HP authorized customer</dc:creator>
  <dc:description/>
  <dc:language>en-US</dc:language>
  <cp:lastModifiedBy>John</cp:lastModifiedBy>
  <dcterms:modified xsi:type="dcterms:W3CDTF">2011-12-23T11:10:24Z</dcterms:modified>
  <cp:revision>30</cp:revision>
  <dc:subject/>
  <dc:title>PowerPoint Presentation</dc:title>
</cp:coreProperties>
</file>